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png" ContentType="image/png"/>
  <Override PartName="/ppt/media/image16.wmf" ContentType="image/x-wmf"/>
  <Override PartName="/ppt/media/image7.wmf" ContentType="image/x-wmf"/>
  <Override PartName="/ppt/media/image12.jpeg" ContentType="image/jpeg"/>
  <Override PartName="/ppt/media/image11.png" ContentType="image/png"/>
  <Override PartName="/ppt/media/image10.wmf" ContentType="image/x-wmf"/>
  <Override PartName="/ppt/media/image6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wmf" ContentType="image/x-wmf"/>
  <Override PartName="/ppt/media/image15.png" ContentType="image/png"/>
  <Override PartName="/ppt/media/image3.wmf" ContentType="image/x-wmf"/>
  <Override PartName="/ppt/media/image4.png" ContentType="image/png"/>
  <Override PartName="/ppt/media/image13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F181-5216-478C-ACF0-C9C27A99B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7253-4D91-4BC1-960E-5B8FC4CB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A671-FD74-442F-9FE3-573F5194A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238F-1048-4352-BC90-A63C0E090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910F-D1F4-4A3B-8A33-6A17C74EE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B15C0-01AE-4617-9261-330D7BC9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9C5FB-8842-4262-9040-966ADC3D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8147-0B47-4FA0-A0E2-CAE60EF6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8825-D8F1-4A9C-A3E2-D1AEE56C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0F97-92FD-40FF-AF87-35BB8150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ADD2-6112-4510-B129-3A729D28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F62C-19C2-4858-AF30-3137F69F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8D557-80D6-4F23-9F42-39800360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5174F-EBD8-41FF-943E-1EF3446C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1AE3B-5E3A-470B-BECE-4F93BF61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96BF-0DEF-4D43-A56C-F5B31D378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8562-D69C-42A3-B879-AFE1BB512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C52E-E706-4CF2-83EB-B63D91D0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E403-2E0C-47AE-B191-4A15E0FC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4C14-DEE8-4B51-9E2F-220A5FB5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BB03-85BB-4E1C-8045-3FD4D560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89D8-94F2-4EA3-90BE-E384E807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D656-6EEC-4123-B255-D54AE241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F920-9F9B-421F-8598-A6C8A43B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7E84-8C44-4699-B90A-5BB6C17E77E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0B92-5DEB-4D42-8BB7-45A0906689C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sb.columbia.edu/" TargetMode="External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gsb.columbia.edu/" TargetMode="External"/><Relationship Id="rId3" Type="http://schemas.openxmlformats.org/officeDocument/2006/relationships/image" Target="../media/image11.png"/><Relationship Id="rId4" Type="http://schemas.openxmlformats.org/officeDocument/2006/relationships/image" Target="../media/image14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5280" y="985320"/>
            <a:ext cx="830592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Project </a:t>
            </a:r>
            <a:r>
              <a:rPr b="1" lang="en-US" sz="3600" spc="-1" strike="noStrike">
                <a:solidFill>
                  <a:srgbClr val="99cccc"/>
                </a:solidFill>
                <a:latin typeface="Verdana"/>
              </a:rPr>
              <a:t>Model</a:t>
            </a: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 Way</a:t>
            </a:r>
            <a:endParaRPr b="1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am 1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illian Bordeau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a Gershon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ronica Hsia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ennifer Hua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waroopa Redd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66"/>
                </a:solidFill>
                <a:latin typeface="Verdana"/>
              </a:rPr>
              <a:t>Run Solver to </a:t>
            </a:r>
            <a:r>
              <a:rPr b="1" lang="en-US" sz="3000" spc="-1" strike="noStrike">
                <a:solidFill>
                  <a:srgbClr val="99cccc"/>
                </a:solidFill>
                <a:latin typeface="Verdana"/>
              </a:rPr>
              <a:t>minimize</a:t>
            </a:r>
            <a:r>
              <a:rPr b="1" lang="en-US" sz="3000" spc="-1" strike="noStrike">
                <a:solidFill>
                  <a:srgbClr val="006666"/>
                </a:solidFill>
                <a:latin typeface="Verdana"/>
              </a:rPr>
              <a:t> penalties </a:t>
            </a: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100240" y="2209680"/>
            <a:ext cx="574848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6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cc"/>
                </a:solidFill>
                <a:latin typeface="Verdana"/>
              </a:rPr>
              <a:t>Crashing</a:t>
            </a: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 parameters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131840" y="1822320"/>
            <a:ext cx="7783560" cy="3488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295280" y="5657760"/>
            <a:ext cx="7391520" cy="642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olver concludes that we can still complete the project by crashing certain activities and lose only 7.5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Run </a:t>
            </a:r>
            <a:r>
              <a:rPr b="1" lang="en-US" sz="3200" spc="-1" strike="noStrike">
                <a:solidFill>
                  <a:srgbClr val="99cccc"/>
                </a:solidFill>
                <a:latin typeface="Verdana"/>
              </a:rPr>
              <a:t>Solver Table</a:t>
            </a: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 to see trade-off in </a:t>
            </a:r>
            <a:r>
              <a:rPr b="1" lang="en-US" sz="3200" spc="-1" strike="noStrike">
                <a:solidFill>
                  <a:srgbClr val="99cccc"/>
                </a:solidFill>
                <a:latin typeface="Verdana"/>
              </a:rPr>
              <a:t>quality</a:t>
            </a: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 vs.</a:t>
            </a:r>
            <a:r>
              <a:rPr b="1" lang="en-US" sz="3200" spc="-1" strike="noStrike">
                <a:solidFill>
                  <a:srgbClr val="99cccc"/>
                </a:solidFill>
                <a:latin typeface="Verdana"/>
              </a:rPr>
              <a:t> tim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143000" y="2374920"/>
            <a:ext cx="3181320" cy="34923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572000" y="3873600"/>
            <a:ext cx="1295280" cy="69840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74600 h 698400"/>
              <a:gd name="textAreaBottom" fmla="*/ 523800 h 698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Verdana"/>
              </a:rPr>
              <a:t>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6019920" y="1676520"/>
            <a:ext cx="24825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6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How optimal quality </a:t>
            </a:r>
            <a:r>
              <a:rPr b="1" lang="en-US" sz="3200" spc="-1" strike="noStrike">
                <a:solidFill>
                  <a:srgbClr val="99cccc"/>
                </a:solidFill>
                <a:latin typeface="Verdana"/>
              </a:rPr>
              <a:t>decreases</a:t>
            </a: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 with </a:t>
            </a:r>
            <a:r>
              <a:rPr b="1" lang="en-US" sz="3200" spc="-1" strike="noStrike">
                <a:solidFill>
                  <a:srgbClr val="99cccc"/>
                </a:solidFill>
                <a:latin typeface="Verdana"/>
              </a:rPr>
              <a:t>less tim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846000" y="1289160"/>
            <a:ext cx="8145720" cy="55688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 rot="18150000">
            <a:off x="6508440" y="4507920"/>
            <a:ext cx="609480" cy="381240"/>
          </a:xfrm>
          <a:prstGeom prst="leftArrow">
            <a:avLst>
              <a:gd name="adj1" fmla="val 50000"/>
              <a:gd name="adj2" fmla="val 399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123680" y="4159080"/>
            <a:ext cx="15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7.5 points l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545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The teams’ </a:t>
            </a:r>
            <a:r>
              <a:rPr b="1" lang="en-US" sz="3600" spc="-1" strike="noStrike">
                <a:solidFill>
                  <a:srgbClr val="99cccc"/>
                </a:solidFill>
                <a:latin typeface="Verdana"/>
              </a:rPr>
              <a:t>models</a:t>
            </a: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8" name="" descr="Columbia Business School home page">
            <a:hlinkClick r:id="rId1"/>
          </p:cNvPr>
          <p:cNvPicPr/>
          <p:nvPr/>
        </p:nvPicPr>
        <p:blipFill>
          <a:blip r:embed="rId2"/>
          <a:srcRect l="9599" t="8347" r="0" b="16694"/>
          <a:stretch/>
        </p:blipFill>
        <p:spPr>
          <a:xfrm>
            <a:off x="7391520" y="4572000"/>
            <a:ext cx="1371600" cy="13082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1447920" y="2297160"/>
            <a:ext cx="1447560" cy="9032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124080" y="223848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figuring out the activities that could be crashed whil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inimizing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he amount of points that would be lost, the Stern team completed a model that would have been scored a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92.5%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4419720"/>
            <a:ext cx="6705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olumbia team, unlike the Stern team, spent too much tim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mailing their friend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on their laptops during class, and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ailed to minimiz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heir penalties when determining the activities to crash. As a result, they developed a model that would have been scored a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91%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76520" y="3886200"/>
            <a:ext cx="6172200" cy="0"/>
          </a:xfrm>
          <a:prstGeom prst="line">
            <a:avLst/>
          </a:prstGeom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545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Judgment </a:t>
            </a:r>
            <a:r>
              <a:rPr b="1" lang="en-US" sz="3600" spc="-1" strike="noStrike">
                <a:solidFill>
                  <a:srgbClr val="99cccc"/>
                </a:solidFill>
                <a:latin typeface="Verdana"/>
              </a:rPr>
              <a:t>day</a:t>
            </a: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705720" y="457200"/>
            <a:ext cx="1981080" cy="13208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057400" y="1781280"/>
            <a:ext cx="4952880" cy="1143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ol of 300 Ju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55480" y="2822400"/>
            <a:ext cx="7730640" cy="2374200"/>
            <a:chOff x="555480" y="2822400"/>
            <a:chExt cx="7730640" cy="2374200"/>
          </a:xfrm>
        </p:grpSpPr>
        <p:sp>
          <p:nvSpPr>
            <p:cNvPr id="207" name=""/>
            <p:cNvSpPr/>
            <p:nvPr/>
          </p:nvSpPr>
          <p:spPr>
            <a:xfrm>
              <a:off x="555480" y="4676760"/>
              <a:ext cx="234792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00 biased judg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(Will assign CBS 4 add’l point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48120" y="4676760"/>
              <a:ext cx="320040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00 biased judg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(Will assign Stern 1 add’l point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325200" y="4676760"/>
              <a:ext cx="196092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00 neutral judg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(Will assign points fairl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" descr="Columbia Business School home page">
              <a:hlinkClick r:id="rId2"/>
            </p:cNvPr>
            <p:cNvPicPr/>
            <p:nvPr/>
          </p:nvPicPr>
          <p:blipFill>
            <a:blip r:embed="rId3"/>
            <a:srcRect l="9599" t="8347" r="0" b="16694"/>
            <a:stretch/>
          </p:blipFill>
          <p:spPr>
            <a:xfrm>
              <a:off x="1066680" y="3457440"/>
              <a:ext cx="1371600" cy="130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4"/>
            <a:stretch/>
          </p:blipFill>
          <p:spPr>
            <a:xfrm>
              <a:off x="6724800" y="3505320"/>
              <a:ext cx="112536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5"/>
            <a:stretch/>
          </p:blipFill>
          <p:spPr>
            <a:xfrm>
              <a:off x="3719520" y="3762360"/>
              <a:ext cx="1371600" cy="8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 flipH="1">
              <a:off x="1828440" y="2822400"/>
              <a:ext cx="685800" cy="622440"/>
            </a:xfrm>
            <a:prstGeom prst="line">
              <a:avLst/>
            </a:prstGeom>
            <a:ln w="255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553080" y="2847960"/>
              <a:ext cx="685800" cy="622440"/>
            </a:xfrm>
            <a:prstGeom prst="line">
              <a:avLst/>
            </a:prstGeom>
            <a:ln w="255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419720" y="3000240"/>
              <a:ext cx="0" cy="703440"/>
            </a:xfrm>
            <a:prstGeom prst="line">
              <a:avLst/>
            </a:prstGeom>
            <a:ln w="255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 rot="5400000">
            <a:off x="4323960" y="2152080"/>
            <a:ext cx="228600" cy="6743880"/>
          </a:xfrm>
          <a:custGeom>
            <a:avLst/>
            <a:gdLst>
              <a:gd name="textAreaLeft" fmla="*/ 0 w 228600"/>
              <a:gd name="textAreaRight" fmla="*/ 160560 w 228600"/>
              <a:gd name="textAreaTop" fmla="*/ 86040 h 6743880"/>
              <a:gd name="textAreaBottom" fmla="*/ 6657840 h 674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7"/>
                  <a:pt x="21600" y="553"/>
                </a:cubicBezTo>
                <a:lnTo>
                  <a:pt x="21600" y="21047"/>
                </a:lnTo>
                <a:cubicBezTo>
                  <a:pt x="21600" y="21324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19720" y="5638680"/>
            <a:ext cx="0" cy="228600"/>
          </a:xfrm>
          <a:prstGeom prst="line">
            <a:avLst/>
          </a:prstGeom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" y="5943600"/>
            <a:ext cx="8470800" cy="609480"/>
          </a:xfrm>
          <a:prstGeom prst="rect">
            <a:avLst/>
          </a:prstGeom>
          <a:solidFill>
            <a:srgbClr val="006666"/>
          </a:solidFill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Seven judge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will be selected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at random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to judge the compet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Judging </a:t>
            </a:r>
            <a:r>
              <a:rPr b="1" lang="en-US" sz="3600" spc="-1" strike="noStrike">
                <a:solidFill>
                  <a:srgbClr val="99cccc"/>
                </a:solidFill>
                <a:latin typeface="Verdana"/>
              </a:rPr>
              <a:t>injusti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Due to the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biases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, whenever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4 or more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of the judges are from Columbia,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Columbia will win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"/>
          <p:cNvSpPr/>
          <p:nvPr/>
        </p:nvSpPr>
        <p:spPr>
          <a:xfrm>
            <a:off x="838080" y="32767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y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other combination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of judges will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guarantee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a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Stern victory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6320" y="4724280"/>
            <a:ext cx="8915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Using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Crystal Ball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, we determined the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probability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at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4 or more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of the judges would be from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Columbia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809880" y="5864400"/>
            <a:ext cx="1371600" cy="612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600200" y="3048120"/>
            <a:ext cx="5867280" cy="0"/>
          </a:xfrm>
          <a:prstGeom prst="line">
            <a:avLst/>
          </a:prstGeom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4343400"/>
            <a:ext cx="6324480" cy="0"/>
          </a:xfrm>
          <a:prstGeom prst="line">
            <a:avLst/>
          </a:prstGeom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 rot="764400">
            <a:off x="7497360" y="2819160"/>
            <a:ext cx="11127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Crystal Ball </a:t>
            </a:r>
            <a:r>
              <a:rPr b="1" lang="en-US" sz="3600" spc="-1" strike="noStrike">
                <a:solidFill>
                  <a:srgbClr val="99cccc"/>
                </a:solidFill>
                <a:latin typeface="Verdana"/>
              </a:rPr>
              <a:t>resul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154160" y="2743200"/>
            <a:ext cx="7380000" cy="3340080"/>
            <a:chOff x="1154160" y="2743200"/>
            <a:chExt cx="7380000" cy="3340080"/>
          </a:xfrm>
        </p:grpSpPr>
        <p:pic>
          <p:nvPicPr>
            <p:cNvPr id="229" name="" descr=""/>
            <p:cNvPicPr/>
            <p:nvPr/>
          </p:nvPicPr>
          <p:blipFill>
            <a:blip r:embed="rId1"/>
            <a:stretch/>
          </p:blipFill>
          <p:spPr>
            <a:xfrm>
              <a:off x="1154160" y="2743200"/>
              <a:ext cx="7380000" cy="26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3603600" y="5715000"/>
              <a:ext cx="163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Verdana"/>
                </a:rPr>
                <a:t>Forecast C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86920" y="5715000"/>
              <a:ext cx="2145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Verdana"/>
                </a:rPr>
                <a:t>Assumption Cel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43400" y="3124080"/>
              <a:ext cx="914400" cy="1333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42938" y="43277"/>
                  </a:moveTo>
                  <a:lnTo>
                    <a:pt x="-1800" y="1851"/>
                  </a:lnTo>
                </a:path>
                <a:path w="21600" h="21600">
                  <a:moveTo>
                    <a:pt x="-1800" y="0"/>
                  </a:moveTo>
                  <a:lnTo>
                    <a:pt x="-1800" y="2160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52880" y="4586040"/>
              <a:ext cx="9144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22275" y="110400"/>
                  </a:moveTo>
                  <a:lnTo>
                    <a:pt x="-1800" y="10800"/>
                  </a:lnTo>
                </a:path>
                <a:path w="21600" h="21600">
                  <a:moveTo>
                    <a:pt x="-1800" y="0"/>
                  </a:moveTo>
                  <a:lnTo>
                    <a:pt x="-1800" y="2160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3595680" y="2057400"/>
            <a:ext cx="224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(1000 tri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Crystal Ball </a:t>
            </a:r>
            <a:r>
              <a:rPr b="1" lang="en-US" sz="3600" spc="-1" strike="noStrike">
                <a:solidFill>
                  <a:srgbClr val="99cccc"/>
                </a:solidFill>
                <a:latin typeface="Verdana"/>
              </a:rPr>
              <a:t>setup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438280" y="1712880"/>
            <a:ext cx="4496040" cy="31640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2514600" y="5105520"/>
            <a:ext cx="434340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Columbia will (</a:t>
            </a:r>
            <a:r>
              <a:rPr b="1" lang="en-US" sz="3200" spc="-1" strike="noStrike">
                <a:solidFill>
                  <a:srgbClr val="99cccc"/>
                </a:solidFill>
                <a:latin typeface="Verdana"/>
              </a:rPr>
              <a:t>unfairly</a:t>
            </a: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) win </a:t>
            </a:r>
            <a:r>
              <a:rPr b="1" lang="en-US" sz="3200" spc="-1" strike="noStrike">
                <a:solidFill>
                  <a:srgbClr val="99cccc"/>
                </a:solidFill>
                <a:latin typeface="Verdana"/>
              </a:rPr>
              <a:t>18%</a:t>
            </a: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 of the tim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219320" y="1905120"/>
            <a:ext cx="7553160" cy="3724200"/>
            <a:chOff x="1219320" y="1905120"/>
            <a:chExt cx="7553160" cy="3724200"/>
          </a:xfrm>
        </p:grpSpPr>
        <p:pic>
          <p:nvPicPr>
            <p:cNvPr id="240" name="" descr=""/>
            <p:cNvPicPr/>
            <p:nvPr/>
          </p:nvPicPr>
          <p:blipFill>
            <a:blip r:embed="rId1"/>
            <a:stretch/>
          </p:blipFill>
          <p:spPr>
            <a:xfrm>
              <a:off x="1219320" y="1905120"/>
              <a:ext cx="7553160" cy="37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3810240" y="4376520"/>
              <a:ext cx="137160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266000" y="4019400"/>
              <a:ext cx="64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Verdana"/>
                </a:rPr>
                <a:t>18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99cccc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 the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super-nerd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MBA Olympics,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Columbia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Stern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battle it out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neck-and-neck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first place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0" t="9599" r="0" b="0"/>
          <a:stretch/>
        </p:blipFill>
        <p:spPr>
          <a:xfrm>
            <a:off x="3276720" y="2862360"/>
            <a:ext cx="2743200" cy="2471760"/>
          </a:xfrm>
          <a:prstGeom prst="rect">
            <a:avLst/>
          </a:prstGeom>
          <a:ln w="25560">
            <a:solidFill>
              <a:srgbClr val="ffcc00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1600200" y="5791320"/>
            <a:ext cx="6858000" cy="761760"/>
          </a:xfrm>
          <a:prstGeom prst="rect">
            <a:avLst/>
          </a:prstGeom>
          <a:noFill/>
          <a:ln w="316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Only one event remains . . .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In </a:t>
            </a:r>
            <a:r>
              <a:rPr b="1" lang="en-US" sz="3600" spc="-1" strike="noStrike">
                <a:solidFill>
                  <a:srgbClr val="99cccc"/>
                </a:solidFill>
                <a:latin typeface="Verdana"/>
              </a:rPr>
              <a:t>conclusion</a:t>
            </a: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 . . 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19320" y="178452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en though there is an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8%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hance that, despite all our hard work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lumbi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ight still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nfairly w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143000" y="594360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 think Juran is worth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 rot="20234400">
            <a:off x="2879640" y="3340080"/>
            <a:ext cx="2305080" cy="20653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>
            <a:lum bright="8000"/>
          </a:blip>
          <a:stretch/>
        </p:blipFill>
        <p:spPr>
          <a:xfrm rot="921600">
            <a:off x="4419360" y="2743200"/>
            <a:ext cx="14191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6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Questions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684600" y="2286000"/>
            <a:ext cx="1392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Juran’s </a:t>
            </a:r>
            <a:r>
              <a:rPr b="1" lang="en-US" sz="3200" spc="-1" strike="noStrike">
                <a:solidFill>
                  <a:srgbClr val="99cccc"/>
                </a:solidFill>
                <a:latin typeface="Verdana"/>
              </a:rPr>
              <a:t>modeling</a:t>
            </a: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 competition</a:t>
            </a:r>
            <a:r>
              <a:rPr b="1" lang="en-US" sz="3200" spc="-1" strike="noStrike">
                <a:solidFill>
                  <a:srgbClr val="99cccc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6640" cy="1373040"/>
          </a:xfrm>
          <a:prstGeom prst="rect">
            <a:avLst/>
          </a:prstGeom>
          <a:noFill/>
          <a:ln w="0">
            <a:noFill/>
          </a:ln>
        </p:spPr>
        <p:txBody>
          <a:bodyPr l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The Ru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Inve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 project,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desig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 model, and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present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to the board in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24 hou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r les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371600" y="3198960"/>
            <a:ext cx="7467480" cy="3503880"/>
            <a:chOff x="1371600" y="3198960"/>
            <a:chExt cx="7467480" cy="3503880"/>
          </a:xfrm>
        </p:grpSpPr>
        <p:grpSp>
          <p:nvGrpSpPr>
            <p:cNvPr id="99" name=""/>
            <p:cNvGrpSpPr/>
            <p:nvPr/>
          </p:nvGrpSpPr>
          <p:grpSpPr>
            <a:xfrm>
              <a:off x="1371600" y="3198960"/>
              <a:ext cx="7467480" cy="3278160"/>
              <a:chOff x="1371600" y="3198960"/>
              <a:chExt cx="7467480" cy="3278160"/>
            </a:xfrm>
          </p:grpSpPr>
          <p:sp>
            <p:nvSpPr>
              <p:cNvPr id="100" name=""/>
              <p:cNvSpPr/>
              <p:nvPr/>
            </p:nvSpPr>
            <p:spPr>
              <a:xfrm>
                <a:off x="1371600" y="3198960"/>
                <a:ext cx="7467480" cy="19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The Priz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Verdana"/>
                  </a:rPr>
                  <a:t>The 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Verdana"/>
                  </a:rPr>
                  <a:t>winning school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Verdana"/>
                  </a:rPr>
                  <a:t> gets to 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Verdana"/>
                  </a:rPr>
                  <a:t>keep Juran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Verdana"/>
                  </a:rPr>
                  <a:t> all to themselves -- no more 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Verdana"/>
                  </a:rPr>
                  <a:t>sending emails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Verdana"/>
                  </a:rPr>
                  <a:t> to one school from 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Verdana"/>
                  </a:rPr>
                  <a:t>another school’s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Verdana"/>
                  </a:rPr>
                  <a:t> email account!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" name="" descr="Photo of David C. Juran"/>
              <p:cNvPicPr/>
              <p:nvPr/>
            </p:nvPicPr>
            <p:blipFill>
              <a:blip r:embed="rId1"/>
              <a:stretch/>
            </p:blipFill>
            <p:spPr>
              <a:xfrm>
                <a:off x="3886200" y="4876920"/>
                <a:ext cx="1309680" cy="1600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 rot="20517000">
              <a:off x="3276720" y="4647960"/>
              <a:ext cx="838080" cy="59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 rot="1754400">
              <a:off x="4800240" y="5943240"/>
              <a:ext cx="838080" cy="592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The necessary </a:t>
            </a:r>
            <a:r>
              <a:rPr b="1" lang="en-US" sz="3600" spc="-1" strike="noStrike">
                <a:solidFill>
                  <a:srgbClr val="99cccc"/>
                </a:solidFill>
                <a:latin typeface="Verdana"/>
              </a:rPr>
              <a:t>step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219320" y="1835280"/>
          <a:ext cx="7618320" cy="3498840"/>
        </p:xfrm>
        <a:graphic>
          <a:graphicData uri="http://schemas.openxmlformats.org/drawingml/2006/table">
            <a:tbl>
              <a:tblPr/>
              <a:tblGrid>
                <a:gridCol w="636480"/>
                <a:gridCol w="4543560"/>
                <a:gridCol w="914400"/>
                <a:gridCol w="15238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6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red Activ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6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uration*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br>
                        <a:rPr sz="1800"/>
                      </a:b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in hour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anning Mee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bjective function and decision variab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ear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the constrai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ign the mod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,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et with Jur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eate the presen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 the presen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,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1066680" y="556272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uration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represent th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deal tim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needed to spend on each step in order to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nsure a projec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of th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ighest quality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which would receive a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erfect grade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 10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cc"/>
                </a:solidFill>
                <a:latin typeface="Verdana"/>
              </a:rPr>
              <a:t>Network</a:t>
            </a: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 represent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36680" y="1828800"/>
            <a:ext cx="8478720" cy="4747320"/>
            <a:chOff x="436680" y="1828800"/>
            <a:chExt cx="8478720" cy="4747320"/>
          </a:xfrm>
        </p:grpSpPr>
        <p:sp>
          <p:nvSpPr>
            <p:cNvPr id="109" name=""/>
            <p:cNvSpPr/>
            <p:nvPr/>
          </p:nvSpPr>
          <p:spPr>
            <a:xfrm>
              <a:off x="2035080" y="1981080"/>
              <a:ext cx="533520" cy="533520"/>
            </a:xfrm>
            <a:prstGeom prst="ellipse">
              <a:avLst/>
            </a:prstGeom>
            <a:solidFill>
              <a:srgbClr val="ff99cc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845320" y="1828800"/>
              <a:ext cx="533160" cy="533520"/>
            </a:xfrm>
            <a:prstGeom prst="ellipse">
              <a:avLst/>
            </a:prstGeom>
            <a:solidFill>
              <a:srgbClr val="ff99cc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78240" y="5772240"/>
              <a:ext cx="533160" cy="533160"/>
            </a:xfrm>
            <a:prstGeom prst="ellipse">
              <a:avLst/>
            </a:prstGeom>
            <a:solidFill>
              <a:srgbClr val="ff99cc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2" name=""/>
            <p:cNvCxnSpPr>
              <a:endCxn id="109" idx="3"/>
            </p:cNvCxnSpPr>
            <p:nvPr/>
          </p:nvCxnSpPr>
          <p:spPr>
            <a:xfrm flipV="1">
              <a:off x="1484280" y="2455200"/>
              <a:ext cx="629280" cy="1189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3" name=""/>
            <p:cNvCxnSpPr/>
            <p:nvPr/>
          </p:nvCxnSpPr>
          <p:spPr>
            <a:xfrm>
              <a:off x="2415960" y="2514600"/>
              <a:ext cx="268920" cy="3240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5" idx="7"/>
            </p:cNvCxnSpPr>
            <p:nvPr/>
          </p:nvCxnSpPr>
          <p:spPr>
            <a:xfrm flipV="1">
              <a:off x="4928760" y="2285640"/>
              <a:ext cx="994680" cy="1659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6" name=""/>
            <p:cNvCxnSpPr/>
            <p:nvPr/>
          </p:nvCxnSpPr>
          <p:spPr>
            <a:xfrm flipH="1">
              <a:off x="6027480" y="2362320"/>
              <a:ext cx="46800" cy="13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1445040" y="2673360"/>
              <a:ext cx="39096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59800" y="3808440"/>
              <a:ext cx="3744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49520" y="2666880"/>
              <a:ext cx="3546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849640" y="3054240"/>
              <a:ext cx="3546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50080" y="5409360"/>
              <a:ext cx="1165320" cy="1166760"/>
            </a:xfrm>
            <a:prstGeom prst="ellipse">
              <a:avLst/>
            </a:prstGeom>
            <a:solidFill>
              <a:srgbClr val="ff99cc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2" name=""/>
            <p:cNvCxnSpPr>
              <a:endCxn id="115" idx="1"/>
            </p:cNvCxnSpPr>
            <p:nvPr/>
          </p:nvCxnSpPr>
          <p:spPr>
            <a:xfrm>
              <a:off x="2568600" y="2417760"/>
              <a:ext cx="1983240" cy="1527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3" name=""/>
            <p:cNvSpPr/>
            <p:nvPr/>
          </p:nvSpPr>
          <p:spPr>
            <a:xfrm>
              <a:off x="3336480" y="2743200"/>
              <a:ext cx="38484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73720" y="3886200"/>
              <a:ext cx="533160" cy="533520"/>
            </a:xfrm>
            <a:prstGeom prst="ellipse">
              <a:avLst/>
            </a:prstGeom>
            <a:solidFill>
              <a:srgbClr val="ff99cc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4" name=""/>
            <p:cNvCxnSpPr>
              <a:endCxn id="115" idx="3"/>
            </p:cNvCxnSpPr>
            <p:nvPr/>
          </p:nvCxnSpPr>
          <p:spPr>
            <a:xfrm flipV="1">
              <a:off x="2949480" y="4360320"/>
              <a:ext cx="1602720" cy="147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5" name=""/>
            <p:cNvSpPr/>
            <p:nvPr/>
          </p:nvSpPr>
          <p:spPr>
            <a:xfrm>
              <a:off x="3392280" y="4730760"/>
              <a:ext cx="40644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226200" y="4419720"/>
              <a:ext cx="533520" cy="533160"/>
            </a:xfrm>
            <a:prstGeom prst="ellipse">
              <a:avLst/>
            </a:prstGeom>
            <a:solidFill>
              <a:srgbClr val="ff99cc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6" idx="5"/>
              <a:endCxn id="121" idx="1"/>
            </p:cNvCxnSpPr>
            <p:nvPr/>
          </p:nvCxnSpPr>
          <p:spPr>
            <a:xfrm>
              <a:off x="6681600" y="4894200"/>
              <a:ext cx="1238760" cy="667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endCxn id="126" idx="1"/>
            </p:cNvCxnSpPr>
            <p:nvPr/>
          </p:nvCxnSpPr>
          <p:spPr>
            <a:xfrm>
              <a:off x="6043320" y="3885840"/>
              <a:ext cx="261000" cy="592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endCxn id="126" idx="7"/>
            </p:cNvCxnSpPr>
            <p:nvPr/>
          </p:nvCxnSpPr>
          <p:spPr>
            <a:xfrm flipH="1">
              <a:off x="6681240" y="3504960"/>
              <a:ext cx="454680" cy="973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7004880" y="4800600"/>
              <a:ext cx="4140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02520" y="2286000"/>
              <a:ext cx="6858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58720" y="2901960"/>
              <a:ext cx="40176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36680" y="3209040"/>
              <a:ext cx="1164960" cy="1684440"/>
            </a:xfrm>
            <a:prstGeom prst="ellipse">
              <a:avLst/>
            </a:prstGeom>
            <a:solidFill>
              <a:srgbClr val="ff99cc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51000" y="2209680"/>
              <a:ext cx="826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Verdana"/>
                </a:rPr>
                <a:t>Planning 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000000"/>
                  </a:solidFill>
                  <a:latin typeface="Verdana"/>
                </a:rPr>
                <a:t>Meet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63840" y="2273400"/>
              <a:ext cx="251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Verdana"/>
                </a:rPr>
                <a:t>Define objective function,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000000"/>
                  </a:solidFill>
                  <a:latin typeface="Verdana"/>
                </a:rPr>
                <a:t>decision variab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37680" y="3527280"/>
              <a:ext cx="7902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Verdana"/>
                </a:rPr>
                <a:t>Resear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62320" y="4267080"/>
              <a:ext cx="251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Verdana"/>
                </a:rPr>
                <a:t>Define 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000000"/>
                  </a:solidFill>
                  <a:latin typeface="Verdana"/>
                </a:rPr>
                <a:t>constrai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191120" y="2222640"/>
              <a:ext cx="251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Verdana"/>
                </a:rPr>
                <a:t>Design 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000000"/>
                  </a:solidFill>
                  <a:latin typeface="Verdana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64240" y="2776680"/>
              <a:ext cx="9144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Verdana"/>
                </a:rPr>
                <a:t>Meet Jur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16800" y="2622600"/>
              <a:ext cx="10666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Verdana"/>
                </a:rPr>
                <a:t>Create pres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58000" y="4495680"/>
              <a:ext cx="11430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Verdana"/>
                </a:rPr>
                <a:t>Practice pres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846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66"/>
                </a:solidFill>
                <a:latin typeface="Verdana"/>
              </a:rPr>
              <a:t>Run Solver to find the </a:t>
            </a:r>
            <a:r>
              <a:rPr b="1" lang="en-US" sz="3000" spc="-1" strike="noStrike">
                <a:solidFill>
                  <a:srgbClr val="99cccc"/>
                </a:solidFill>
                <a:latin typeface="Verdana"/>
              </a:rPr>
              <a:t>critical path</a:t>
            </a:r>
            <a:r>
              <a:rPr b="1" lang="en-US" sz="3000" spc="-1" strike="noStrike">
                <a:solidFill>
                  <a:srgbClr val="006666"/>
                </a:solidFill>
                <a:latin typeface="Verdana"/>
              </a:rPr>
              <a:t> and </a:t>
            </a:r>
            <a:r>
              <a:rPr b="1" lang="en-US" sz="3000" spc="-1" strike="noStrike">
                <a:solidFill>
                  <a:srgbClr val="99cccc"/>
                </a:solidFill>
                <a:latin typeface="Verdana"/>
              </a:rPr>
              <a:t>minimum hours</a:t>
            </a:r>
            <a:r>
              <a:rPr b="1" lang="en-US" sz="3000" spc="-1" strike="noStrike">
                <a:solidFill>
                  <a:srgbClr val="006666"/>
                </a:solidFill>
                <a:latin typeface="Verdana"/>
              </a:rPr>
              <a:t> required</a:t>
            </a: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022480" y="2327400"/>
            <a:ext cx="574992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Critical path in </a:t>
            </a:r>
            <a:r>
              <a:rPr b="1" lang="en-US" sz="3600" spc="-1" strike="noStrike">
                <a:solidFill>
                  <a:srgbClr val="0000cc"/>
                </a:solidFill>
                <a:latin typeface="Verdana"/>
              </a:rPr>
              <a:t>blu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35080" y="1981080"/>
            <a:ext cx="533520" cy="533520"/>
          </a:xfrm>
          <a:prstGeom prst="ellipse">
            <a:avLst/>
          </a:prstGeom>
          <a:solidFill>
            <a:srgbClr val="ff99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45320" y="1828800"/>
            <a:ext cx="533160" cy="533520"/>
          </a:xfrm>
          <a:prstGeom prst="ellipse">
            <a:avLst/>
          </a:prstGeom>
          <a:solidFill>
            <a:srgbClr val="ff99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78240" y="5757840"/>
            <a:ext cx="533160" cy="533520"/>
          </a:xfrm>
          <a:prstGeom prst="ellipse">
            <a:avLst/>
          </a:prstGeom>
          <a:solidFill>
            <a:srgbClr val="ff99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endCxn id="145" idx="3"/>
          </p:cNvCxnSpPr>
          <p:nvPr/>
        </p:nvCxnSpPr>
        <p:spPr>
          <a:xfrm flipV="1">
            <a:off x="1484280" y="2455200"/>
            <a:ext cx="629280" cy="118980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49" name=""/>
          <p:cNvCxnSpPr/>
          <p:nvPr/>
        </p:nvCxnSpPr>
        <p:spPr>
          <a:xfrm>
            <a:off x="2415960" y="2514600"/>
            <a:ext cx="268920" cy="324072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51" idx="7"/>
          </p:cNvCxnSpPr>
          <p:nvPr/>
        </p:nvCxnSpPr>
        <p:spPr>
          <a:xfrm flipV="1">
            <a:off x="4928760" y="2285640"/>
            <a:ext cx="994680" cy="165960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52" name=""/>
          <p:cNvCxnSpPr/>
          <p:nvPr/>
        </p:nvCxnSpPr>
        <p:spPr>
          <a:xfrm flipH="1">
            <a:off x="6027480" y="2362320"/>
            <a:ext cx="4680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1445040" y="2673360"/>
            <a:ext cx="3909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359800" y="3808440"/>
            <a:ext cx="3744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49520" y="2666880"/>
            <a:ext cx="3546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49640" y="3054240"/>
            <a:ext cx="3546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750080" y="5409360"/>
            <a:ext cx="1165320" cy="1166760"/>
          </a:xfrm>
          <a:prstGeom prst="ellipse">
            <a:avLst/>
          </a:prstGeom>
          <a:solidFill>
            <a:srgbClr val="ff99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endCxn id="151" idx="1"/>
          </p:cNvCxnSpPr>
          <p:nvPr/>
        </p:nvCxnSpPr>
        <p:spPr>
          <a:xfrm>
            <a:off x="2568600" y="2417760"/>
            <a:ext cx="1983240" cy="152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9" name=""/>
          <p:cNvSpPr/>
          <p:nvPr/>
        </p:nvSpPr>
        <p:spPr>
          <a:xfrm>
            <a:off x="3336480" y="2743200"/>
            <a:ext cx="3848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73720" y="3886200"/>
            <a:ext cx="533160" cy="533520"/>
          </a:xfrm>
          <a:prstGeom prst="ellipse">
            <a:avLst/>
          </a:prstGeom>
          <a:solidFill>
            <a:srgbClr val="ff99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"/>
          <p:cNvCxnSpPr>
            <a:endCxn id="151" idx="3"/>
          </p:cNvCxnSpPr>
          <p:nvPr/>
        </p:nvCxnSpPr>
        <p:spPr>
          <a:xfrm flipV="1">
            <a:off x="2949480" y="4360320"/>
            <a:ext cx="1602720" cy="147204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161" name=""/>
          <p:cNvSpPr/>
          <p:nvPr/>
        </p:nvSpPr>
        <p:spPr>
          <a:xfrm>
            <a:off x="3392280" y="4730760"/>
            <a:ext cx="4064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26200" y="4419720"/>
            <a:ext cx="533520" cy="533160"/>
          </a:xfrm>
          <a:prstGeom prst="ellipse">
            <a:avLst/>
          </a:prstGeom>
          <a:solidFill>
            <a:srgbClr val="ff99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>
            <a:stCxn id="162" idx="5"/>
            <a:endCxn id="157" idx="1"/>
          </p:cNvCxnSpPr>
          <p:nvPr/>
        </p:nvCxnSpPr>
        <p:spPr>
          <a:xfrm>
            <a:off x="6681600" y="4894200"/>
            <a:ext cx="1238760" cy="66744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endCxn id="162" idx="1"/>
          </p:cNvCxnSpPr>
          <p:nvPr/>
        </p:nvCxnSpPr>
        <p:spPr>
          <a:xfrm>
            <a:off x="6043320" y="3885840"/>
            <a:ext cx="261000" cy="59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endCxn id="162" idx="7"/>
          </p:cNvCxnSpPr>
          <p:nvPr/>
        </p:nvCxnSpPr>
        <p:spPr>
          <a:xfrm flipH="1">
            <a:off x="6681240" y="3504960"/>
            <a:ext cx="454680" cy="97380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7004880" y="4800600"/>
            <a:ext cx="4140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02520" y="2286000"/>
            <a:ext cx="68580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58720" y="2901960"/>
            <a:ext cx="4017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6680" y="3209040"/>
            <a:ext cx="1164960" cy="1684440"/>
          </a:xfrm>
          <a:prstGeom prst="ellipse">
            <a:avLst/>
          </a:prstGeom>
          <a:solidFill>
            <a:srgbClr val="ff99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51000" y="2209680"/>
            <a:ext cx="82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Planning 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63840" y="2273400"/>
            <a:ext cx="2514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Define objective function,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decision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7680" y="3527280"/>
            <a:ext cx="790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4267080"/>
            <a:ext cx="2514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Define 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con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222640"/>
            <a:ext cx="2514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Design 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64240" y="2776680"/>
            <a:ext cx="914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Meet Ju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16800" y="2622600"/>
            <a:ext cx="10666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Create pr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0" y="449568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Practice pr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cccc"/>
                </a:solidFill>
                <a:latin typeface="Verdana"/>
              </a:rPr>
              <a:t>Minimum</a:t>
            </a:r>
            <a:r>
              <a:rPr b="1" lang="en-US" sz="3000" spc="-1" strike="noStrike">
                <a:solidFill>
                  <a:srgbClr val="006666"/>
                </a:solidFill>
                <a:latin typeface="Verdana"/>
              </a:rPr>
              <a:t> time required is </a:t>
            </a:r>
            <a:r>
              <a:rPr b="1" lang="en-US" sz="3000" spc="-1" strike="noStrike">
                <a:solidFill>
                  <a:srgbClr val="99cccc"/>
                </a:solidFill>
                <a:latin typeface="Verdana"/>
              </a:rPr>
              <a:t>28 hrs</a:t>
            </a: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7238880" cy="4064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914400" y="585144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However,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remember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that for the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competition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, we are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limited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to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24 hours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to complete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all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of these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545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All </a:t>
            </a:r>
            <a:r>
              <a:rPr b="1" lang="en-US" sz="3600" spc="-1" strike="noStrike">
                <a:solidFill>
                  <a:srgbClr val="99cccc"/>
                </a:solidFill>
                <a:latin typeface="Verdana"/>
              </a:rPr>
              <a:t>activities</a:t>
            </a: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 can be </a:t>
            </a:r>
            <a:r>
              <a:rPr b="1" lang="en-US" sz="3600" spc="-1" strike="noStrike">
                <a:solidFill>
                  <a:srgbClr val="99cccc"/>
                </a:solidFill>
                <a:latin typeface="Verdana"/>
              </a:rPr>
              <a:t>reduced</a:t>
            </a: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3271680"/>
          <a:ext cx="8229600" cy="3052800"/>
        </p:xfrm>
        <a:graphic>
          <a:graphicData uri="http://schemas.openxmlformats.org/drawingml/2006/table">
            <a:tbl>
              <a:tblPr/>
              <a:tblGrid>
                <a:gridCol w="457200"/>
                <a:gridCol w="4267080"/>
                <a:gridCol w="1524240"/>
                <a:gridCol w="1981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red Activ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ints L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x Red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anning Mee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bjective function &amp; decision variab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ear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the constrai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ign the mod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7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et with Jur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eate the presen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 the presen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1295280" y="1827360"/>
            <a:ext cx="762012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ome activiti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an b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duc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ore than ot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tion of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ifferent activiti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holds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ying penalti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th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ualit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f the pres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30T21:04:48Z</dcterms:created>
  <dc:creator>Veronica N. Hsia</dc:creator>
  <dc:description/>
  <dc:language>en-US</dc:language>
  <cp:lastModifiedBy>Noa Gershony</cp:lastModifiedBy>
  <dcterms:modified xsi:type="dcterms:W3CDTF">2006-12-04T04:09:09Z</dcterms:modified>
  <cp:revision>42</cp:revision>
  <dc:subject/>
  <dc:title>Project Modeling</dc:title>
</cp:coreProperties>
</file>